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C43-EA1C-4BC5-BC2E-11EB3F60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51E-9D20-4452-A768-5AFCA9DD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4CA-6BE5-4979-8EA8-29D94F94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18-2322-4F1D-972F-9EC815A1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0AD-B454-43BD-9419-0E967334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AAD-0A77-4FEF-B976-3D494A81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3F7-D427-4DF1-9328-B0064EA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1A7-2E50-48B0-87ED-A3D37F31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609-FBB9-4A20-93D5-FAB6CC4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AA2-FA0C-4872-89FC-7E45F1B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51A-7AC2-49C2-BE89-855D540C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010-2017-4B7F-BA57-E7F67B2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D500-7272-4CF0-B6D5-E5CB1A57010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E69E-AADC-498C-974E-7433258FE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f497d"/>
            </a:gs>
            <a:gs pos="50000">
              <a:srgbClr val="1c4270"/>
            </a:gs>
            <a:gs pos="100000">
              <a:srgbClr val="1f4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1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44" name="Group 3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45" name="Group 9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46" name="Group 7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47" name="Freeform 4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6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" name="Freeform 8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3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52" name="Group 13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53" name="Freeform 10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11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12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" name="Freeform 14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7061040" y="914400"/>
                  <a:ext cx="262080" cy="37620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66" name="Freeform 24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Group 29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68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69" name="Freeform 25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prstGeom prst="pie">
                      <a:avLst/>
                    </a:prstGeom>
                    <a:solidFill>
                      <a:srgbClr val="1f497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Freeform 26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prstGeom prst="pie">
                      <a:avLst/>
                    </a:prstGeom>
                    <a:solidFill>
                      <a:srgbClr val="1f497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" name="Freeform 28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prstGeom prst="pie">
                    <a:avLst/>
                  </a:prstGeom>
                  <a:solidFill>
                    <a:srgbClr val="1f4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Freeform 30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prstGeom prst="pie">
                  <a:avLst/>
                </a:prstGeom>
                <a:solidFill>
                  <a:srgbClr val="1f4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40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75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prstGeom prst="pie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ACE TOWARD’S AN EMP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hapter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pen 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828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, 1900: "Open Door" policy in Ch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uropean nation should carve out a sphere of influence in China and exclude others from trading in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pite American claims to the contrary, other countries did not fully accep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opened the potential for later conflict with expansion-minded powers in Pa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 Colonial Empires, 19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DIVI7233457"/>
          <p:cNvPicPr/>
          <p:nvPr/>
        </p:nvPicPr>
        <p:blipFill>
          <a:blip r:embed="rId2"/>
          <a:stretch/>
        </p:blipFill>
        <p:spPr>
          <a:xfrm>
            <a:off x="762120" y="1905120"/>
            <a:ext cx="7619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 Looks Out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estic concerns dominated the post-Civil Wa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70s brought new interest in areas beyond U.S. bounda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ism began to replace nationalism (the new Manifest Destin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Expa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, Economic, and Military expa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volutionary ideas encouraged expansion to give guidance to native peoples elsewhere (Christianity, Democracy, and Capital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xpansion abroad sought to gain mar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Navy Dep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eign Policy Approaches: 1867–1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ansionist foreign polic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rategically placed islands taken, intended only as colonie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cquisitions: Hawaii, Samoa, Midway Island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roded European influence in Latin Ameri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: diverted Latin American trade from Europe through a series of reciprocity treati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merchant marine, strong navy need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IVI7233446"/>
          <p:cNvPicPr/>
          <p:nvPr/>
        </p:nvPicPr>
        <p:blipFill>
          <a:blip r:embed="rId2"/>
          <a:stretch/>
        </p:blipFill>
        <p:spPr>
          <a:xfrm>
            <a:off x="4567320" y="1981080"/>
            <a:ext cx="457668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War for Prin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28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bellion in Cuba since 18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Yellow press" whipped up U.S. sentiment to favor Cuban independence (Pulitzer/NY World vs. Hearst/NY Jour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Kinley tries for peace agreement to no av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uary, 1898: Explosion of the M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il, 19: Congress declared Cuba independent, passed "Teller Amendmen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il, 25: U.S. declared war on S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A Splendid Little War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regular army small, ill-prepa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took only 10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rge Dewey captures Manila B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ba invaded and conque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ntiago surrendered, Puerto Rico occup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Americans make up large contingent in army (begin to resist segreg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 with 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ar increased overseas possess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also gained the U.S. recognition as a “world power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te of the Philippines was the thorniest issue at the peace negoti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War with the Philippines will rage on for 3 more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ember, 1898: Treaty of Pa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ba 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. acquires Puerto Rico, Guam, Philipp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tification of peace treaty made U.S. a colonizing n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ing th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eme Court permitted selective application of Constitution to new terri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 citizenship and other rights (ex: Puerto 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tt Amendment: U.S. given right to intervene in Cuban aff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IVI7233456"/>
          <p:cNvPicPr/>
          <p:nvPr/>
        </p:nvPicPr>
        <p:blipFill>
          <a:blip r:embed="rId3"/>
          <a:stretch/>
        </p:blipFill>
        <p:spPr>
          <a:xfrm>
            <a:off x="3962520" y="2057400"/>
            <a:ext cx="5099040" cy="33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5:38:11Z</dcterms:created>
  <dc:creator>Timothy Hall</dc:creator>
  <dc:description/>
  <cp:keywords/>
  <dc:language>en-US</dc:language>
  <cp:lastModifiedBy>Thaddeus J. Brooks</cp:lastModifiedBy>
  <cp:lastPrinted>2012-09-11T10:32:31Z</cp:lastPrinted>
  <dcterms:modified xsi:type="dcterms:W3CDTF">2013-10-28T14:15:23Z</dcterms:modified>
  <cp:revision>26</cp:revision>
  <dc:subject/>
  <dc:title>CHAPTER 21 TOWARD EMPIRE</dc:title>
</cp:coreProperties>
</file>